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BE4-4EFD-4BD3-A2DD-612D5889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02B9-BC5C-4035-A6DB-8F0CD0D8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BC5-E31E-4FD9-B1CC-15BE4645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D7F-AAEF-46F1-915C-A6F885B7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9783-451D-41DB-99B6-608C4084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D1AE-77EA-409A-A2C8-383DFBD2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7364-3E71-422D-AA46-FBC756A8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D0D4-EF12-4419-A267-81C8E619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617E-4AF2-475A-8FE4-400644F0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8B8B-CBDA-4F16-A557-D3707E6E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0325-0A6A-4760-994D-BBB564DE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69E-14E6-4D99-853A-F1218376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FD64-1501-40D9-91DE-7FCC16B1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32A7-1D9F-482C-98FB-92B8620F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0319-AB48-4D19-A238-C1F25346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62A5-0102-4835-B112-9DCC5D20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98FA-F612-4672-86A3-B16937C8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8EAB0-26B4-4F68-B8E8-FBAE601C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56C56-A6CD-4CCF-95DC-E2470013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72B8B-EBB9-48B9-BA37-FBD109FD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A3E1D-0791-4C5C-A039-A7BF23CC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12425-21EE-4608-BE16-997B7166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ACE-6BCB-435B-BFD1-DA9254D1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6715F-6C08-4D4E-B212-5F8ADDFF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4AB44-4280-40F0-B2D0-D15971CA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756E8-7630-4446-BAEE-32D7D9DC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4D8CA-6F93-4AE8-8C50-41FC35A7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1C5F7-D37B-4D41-8EA3-4EE601DE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5BD07-66BC-4A7C-A730-EF0BDC11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00460-3C0A-42D9-B47C-461F3DCD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013B-290B-4762-A429-A06C7862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2A6-619D-4249-A5F6-3F0AC512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07E-5795-48E8-8D5B-38EF555A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7A5-7A83-4DD7-980E-A02AE47F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A39-677F-40FF-8337-C35552CB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B6A1-83BE-474D-934A-FB2C0286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F1127-7417-4EFF-B2BF-DB9FFDC7C630}" type="slidenum">
              <a:rPr b="0" lang="ru-RU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B9EA6-E7E4-4666-A944-6FCF7CE717BA}" type="slidenum">
              <a:rPr b="0" lang="ru-RU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4349A-E12B-4B9D-B5ED-96A4CB4B9172}" type="slidenum">
              <a:rPr b="0" lang="ru-RU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5"/>
          <p:cNvSpPr/>
          <p:nvPr/>
        </p:nvSpPr>
        <p:spPr>
          <a:xfrm>
            <a:off x="457200" y="1752480"/>
            <a:ext cx="8305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Тема урока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7d891d"/>
                </a:solidFill>
                <a:latin typeface="Corbel"/>
              </a:rPr>
              <a:t>«Общевоинские уставы</a:t>
            </a:r>
            <a:br>
              <a:rPr sz="4000"/>
            </a:br>
            <a:r>
              <a:rPr b="1" lang="ru-RU" sz="4000" spc="-1" strike="noStrike">
                <a:solidFill>
                  <a:srgbClr val="7d891d"/>
                </a:solidFill>
                <a:latin typeface="Corbel"/>
              </a:rPr>
              <a:t>Вооруженных Сил РФ — закон воинской жизни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066680" y="4191120"/>
            <a:ext cx="7315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3" descr="142294"/>
          <p:cNvPicPr/>
          <p:nvPr/>
        </p:nvPicPr>
        <p:blipFill>
          <a:blip r:embed="rId1"/>
          <a:stretch/>
        </p:blipFill>
        <p:spPr>
          <a:xfrm>
            <a:off x="324000" y="3376440"/>
            <a:ext cx="2038320" cy="32004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0"/>
          <p:cNvSpPr/>
          <p:nvPr/>
        </p:nvSpPr>
        <p:spPr>
          <a:xfrm>
            <a:off x="2666880" y="3376440"/>
            <a:ext cx="2971800" cy="3200400"/>
          </a:xfrm>
          <a:prstGeom prst="rect">
            <a:avLst/>
          </a:prstGeom>
          <a:solidFill>
            <a:srgbClr val="a6b7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рнизонная служб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назначена для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я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инской дисциплины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я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ых условий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вседневной жизни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и войск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я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низонных мероприяти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частием войск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5791320" y="3352680"/>
            <a:ext cx="3200400" cy="3200400"/>
          </a:xfrm>
          <a:prstGeom prst="rect">
            <a:avLst/>
          </a:prstGeom>
          <a:solidFill>
            <a:srgbClr val="a6b7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ульная служба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назначена для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раны личного состава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инской част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раны боевых знамен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нилищ с вооружением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еприпасами, военной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к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раны арестованных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жденных на гауптвахте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Прямоугольник 1"/>
          <p:cNvSpPr/>
          <p:nvPr/>
        </p:nvSpPr>
        <p:spPr>
          <a:xfrm>
            <a:off x="1066680" y="260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d891d"/>
                </a:solidFill>
                <a:latin typeface="Arial"/>
              </a:rPr>
              <a:t>Устав гарнизонной и караульной служ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Прямоугольник 2"/>
          <p:cNvSpPr/>
          <p:nvPr/>
        </p:nvSpPr>
        <p:spPr>
          <a:xfrm>
            <a:off x="685800" y="91440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7d891d"/>
                </a:solidFill>
                <a:latin typeface="Corbel"/>
              </a:rPr>
              <a:t>Устав гарнизонной и караульной служб</a:t>
            </a:r>
            <a:r>
              <a:rPr b="1" lang="ru-RU" sz="2400" spc="-1" strike="noStrike">
                <a:solidFill>
                  <a:srgbClr val="7d891d"/>
                </a:solidFill>
                <a:latin typeface="Corbel"/>
              </a:rPr>
              <a:t> – </a:t>
            </a:r>
            <a:r>
              <a:rPr b="0" lang="ru-RU" sz="2400" spc="-1" strike="noStrike">
                <a:solidFill>
                  <a:srgbClr val="7d891d"/>
                </a:solidFill>
                <a:latin typeface="Corbel"/>
              </a:rPr>
              <a:t>определяет предназначение, порядок организации и несения гарнизонной и караульной служб, права и обязанности должностных лиц гарнизона и военнослужащих, несущих эти службы, порядок проведения гарнизонных мероприяти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141090"/>
          <p:cNvPicPr/>
          <p:nvPr/>
        </p:nvPicPr>
        <p:blipFill>
          <a:blip r:embed="rId1"/>
          <a:stretch/>
        </p:blipFill>
        <p:spPr>
          <a:xfrm>
            <a:off x="3581280" y="3124080"/>
            <a:ext cx="2363760" cy="327672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2"/>
          <p:cNvSpPr/>
          <p:nvPr/>
        </p:nvSpPr>
        <p:spPr>
          <a:xfrm>
            <a:off x="2374560" y="304920"/>
            <a:ext cx="43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d891d"/>
                </a:solidFill>
                <a:latin typeface="Arial"/>
              </a:rPr>
              <a:t>Дисциплинарный уста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762120" y="1068480"/>
            <a:ext cx="761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7d891d"/>
                </a:solidFill>
                <a:latin typeface="Corbel"/>
              </a:rPr>
              <a:t>Дисциплинарный устав </a:t>
            </a:r>
            <a:r>
              <a:rPr b="1" lang="ru-RU" sz="2800" spc="-1" strike="noStrike">
                <a:solidFill>
                  <a:srgbClr val="7d891d"/>
                </a:solidFill>
                <a:latin typeface="Corbel"/>
              </a:rPr>
              <a:t>– </a:t>
            </a:r>
            <a:r>
              <a:rPr b="0" lang="ru-RU" sz="2800" spc="-1" strike="noStrike">
                <a:solidFill>
                  <a:srgbClr val="7d891d"/>
                </a:solidFill>
                <a:latin typeface="Corbel"/>
              </a:rPr>
              <a:t>определяет сущность воинской дисциплины, обязанности военнослужащих по её соблюдению, виды поощрений и дисциплинарных взыскан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800" spc="-1" strike="noStrike">
                <a:solidFill>
                  <a:srgbClr val="7d891d"/>
                </a:solidFill>
                <a:latin typeface="Corbel"/>
              </a:rPr>
              <a:t> </a:t>
            </a:r>
            <a:r>
              <a:rPr b="1" i="1" lang="ru-RU" sz="3000" spc="-1" strike="noStrike">
                <a:solidFill>
                  <a:srgbClr val="7d891d"/>
                </a:solidFill>
                <a:latin typeface="Corbel"/>
              </a:rPr>
              <a:t>К солдатам, матросам, сержантам и </a:t>
            </a:r>
            <a:br>
              <a:rPr sz="3000"/>
            </a:br>
            <a:r>
              <a:rPr b="1" i="1" lang="ru-RU" sz="3000" spc="-1" strike="noStrike">
                <a:solidFill>
                  <a:srgbClr val="7d891d"/>
                </a:solidFill>
                <a:latin typeface="Corbel"/>
              </a:rPr>
              <a:t>старшинам применяются следующие  поощрения</a:t>
            </a:r>
            <a:r>
              <a:rPr b="1" i="1" lang="ru-RU" sz="30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0" lang="ru-RU" sz="3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3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57320" indent="-1252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ъявление благодарности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57320" indent="-1252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нятие ранее наложенного дисциплинарного взыскания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57320" indent="-1252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азрешение очередного увольнения вне очереди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57320" indent="-1252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граждение грамотами, ценными подарками, деньгами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57320" indent="-1252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своение очередного воинского звания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57320" indent="-1252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едоставление краткосрочного отпуска (до 5 суток), не считая времени на проезд к месту отпуска и  обратно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84872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400" spc="-1" strike="noStrike">
                <a:solidFill>
                  <a:srgbClr val="7d891d"/>
                </a:solidFill>
                <a:latin typeface="Corbel"/>
              </a:rPr>
              <a:t>Дисциплинарные взыскания, налагаемые на солдат:</a:t>
            </a:r>
            <a:br>
              <a:rPr sz="3400"/>
            </a:br>
            <a:endParaRPr b="0" lang="en-US" sz="3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мечание;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ыговор;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ишение очередного увольнения;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значение вне очереди  в наряд по службе (до 5 нарядов);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арест с содержанием на гауптвахте – до 10 суток;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ишение нагрудного знака отличника;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ишение воинского звания ефрейтор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1159269548"/>
          <p:cNvPicPr/>
          <p:nvPr/>
        </p:nvPicPr>
        <p:blipFill>
          <a:blip r:embed="rId1"/>
          <a:stretch/>
        </p:blipFill>
        <p:spPr>
          <a:xfrm>
            <a:off x="990720" y="3048120"/>
            <a:ext cx="2039760" cy="297180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1"/>
          <p:cNvSpPr/>
          <p:nvPr/>
        </p:nvSpPr>
        <p:spPr>
          <a:xfrm>
            <a:off x="2591640" y="32400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d891d"/>
                </a:solidFill>
                <a:latin typeface="Corbel"/>
              </a:rPr>
              <a:t>Строевой уста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914400" y="97164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7d891d"/>
                </a:solidFill>
                <a:latin typeface="Corbel"/>
              </a:rPr>
              <a:t>Строевой устав</a:t>
            </a:r>
            <a:r>
              <a:rPr b="1" lang="ru-RU" sz="2400" spc="-1" strike="noStrike">
                <a:solidFill>
                  <a:srgbClr val="7d891d"/>
                </a:solidFill>
                <a:latin typeface="Corbel"/>
              </a:rPr>
              <a:t> – </a:t>
            </a:r>
            <a:r>
              <a:rPr b="0" lang="ru-RU" sz="2400" spc="-1" strike="noStrike">
                <a:solidFill>
                  <a:srgbClr val="7d891d"/>
                </a:solidFill>
                <a:latin typeface="Corbel"/>
              </a:rPr>
              <a:t>определяет строевые приемы и движения без оружия и с оружием, строи подразделений и воинских частей в пешем порядке и на машинах, порядок выполнения воинского приветств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71" name="Рисунок 4" descr=""/>
          <p:cNvPicPr/>
          <p:nvPr/>
        </p:nvPicPr>
        <p:blipFill>
          <a:blip r:embed="rId2"/>
          <a:stretch/>
        </p:blipFill>
        <p:spPr>
          <a:xfrm>
            <a:off x="3400560" y="2909880"/>
            <a:ext cx="52578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"/>
          <p:cNvSpPr/>
          <p:nvPr/>
        </p:nvSpPr>
        <p:spPr>
          <a:xfrm>
            <a:off x="1818360" y="434880"/>
            <a:ext cx="55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d891d"/>
                </a:solidFill>
                <a:latin typeface="Corbel"/>
              </a:rPr>
              <a:t>Корабельный устав ВМФ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Прямоугольник 2"/>
          <p:cNvSpPr/>
          <p:nvPr/>
        </p:nvSpPr>
        <p:spPr>
          <a:xfrm>
            <a:off x="914400" y="1195560"/>
            <a:ext cx="79246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7d891d"/>
                </a:solidFill>
                <a:latin typeface="Corbel"/>
              </a:rPr>
              <a:t>На кораблях внутренняя служба и обязанности должностных лиц дополнительно определяют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d891d"/>
                </a:solidFill>
                <a:latin typeface="Corbel"/>
              </a:rPr>
              <a:t>Корабельным уставом ВМ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2057400" y="2971800"/>
            <a:ext cx="50292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1143000" y="1685160"/>
            <a:ext cx="731520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уденты, обучающиеся на военной кафедре университета, проходят военные сборы в одной из воинских частей. Один из студентов в порядке стажировки назначен командиром взвода и обязан провести инструктаж солдат, назначенных в патруль по гарнизону. Каким общевоинским уставом он должен воспользоваться?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Прямоугольник 2"/>
          <p:cNvSpPr/>
          <p:nvPr/>
        </p:nvSpPr>
        <p:spPr>
          <a:xfrm>
            <a:off x="1674000" y="76212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535c13"/>
                </a:solidFill>
                <a:latin typeface="Corbel"/>
                <a:ea typeface="Times New Roman"/>
              </a:rPr>
              <a:t>Решение ситуационных задач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304920" y="1158120"/>
            <a:ext cx="921384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1) Ответить на вопрос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Перед вами список воинских уставов. Отметьте знаком « + » уставы, которые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относятся к общевоинским,  при этом введены указом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Президента Российской Федераци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Устав внутренней службы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Корабельный устав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Боевой устав радиотехнических войск (рота — батальон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Дисциплинарный устав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Устав гарнизонной и караульной служб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2) Приведите название общевоинских уставов, которые соответствуют по задачам и содержанию следующим устава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эпохи Петра I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1.   Краткое обыкновенное учение — ..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2.   Артикул воинский с кратким толкованием —..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3.   Устав воинский —..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Прямоугольник 4"/>
          <p:cNvSpPr/>
          <p:nvPr/>
        </p:nvSpPr>
        <p:spPr>
          <a:xfrm>
            <a:off x="3323520" y="685800"/>
            <a:ext cx="26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535c13"/>
                </a:solidFill>
                <a:latin typeface="Corbel"/>
              </a:rPr>
              <a:t>Закрепле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990720" y="2057400"/>
            <a:ext cx="761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ндивидуальные сообщения по темам из общевоинского устава (права военнослужащих, общие обязанности военнослужащих, ответственность военнослужащих - по выбору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Прямоугольник 2"/>
          <p:cNvSpPr/>
          <p:nvPr/>
        </p:nvSpPr>
        <p:spPr>
          <a:xfrm>
            <a:off x="2694960" y="914400"/>
            <a:ext cx="38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535c13"/>
                </a:solidFill>
                <a:latin typeface="Corbe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7d891d"/>
                </a:solidFill>
                <a:latin typeface="Arial"/>
              </a:rPr>
              <a:t>Итоги урока: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Рассмотрена история создания воинских уставов России;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Рассмотрены современные общевоинские уставы ВС РФ, их назначение, основное содержание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   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          </a:t>
            </a:r>
            <a:r>
              <a:rPr b="1" lang="ru-RU" sz="2000" spc="-1" strike="noStrike">
                <a:solidFill>
                  <a:srgbClr val="a6b727"/>
                </a:solidFill>
                <a:latin typeface="Corbel"/>
              </a:rPr>
              <a:t>Чем объясняется необходимость во введении воинских уставов в современной российской армии?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slide0005"/>
          <p:cNvPicPr/>
          <p:nvPr/>
        </p:nvPicPr>
        <p:blipFill>
          <a:blip r:embed="rId1"/>
          <a:stretch/>
        </p:blipFill>
        <p:spPr>
          <a:xfrm rot="20221200">
            <a:off x="2727000" y="3158640"/>
            <a:ext cx="3689280" cy="27655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1"/>
          <p:cNvSpPr/>
          <p:nvPr/>
        </p:nvSpPr>
        <p:spPr>
          <a:xfrm>
            <a:off x="1295280" y="60948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d891d"/>
                </a:solidFill>
                <a:latin typeface="Arial"/>
              </a:rPr>
              <a:t>Первая попытка установить общий порядок несения военной службы относится к 1571 году, когда боярином М.Н. Воротынским был составлен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оярский приговор о станичной и сторожевой службе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2038320" y="2855880"/>
            <a:ext cx="5067360" cy="37958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1"/>
          <p:cNvSpPr/>
          <p:nvPr/>
        </p:nvSpPr>
        <p:spPr>
          <a:xfrm>
            <a:off x="1371600" y="457200"/>
            <a:ext cx="640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7d891d"/>
                </a:solidFill>
                <a:latin typeface="Corbel"/>
              </a:rPr>
              <a:t>В 1621 году, появляется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"Устав ратных, пушечных и других дел, касающихся до воинской науки…«</a:t>
            </a:r>
            <a:r>
              <a:rPr b="0" lang="ru-RU" sz="2800" spc="-1" strike="noStrike">
                <a:solidFill>
                  <a:srgbClr val="7d891d"/>
                </a:solidFill>
                <a:latin typeface="Corbel"/>
              </a:rPr>
              <a:t> (разработал Онисим Михайлов), где определялись действия войск в различных видах бо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slide0006"/>
          <p:cNvPicPr/>
          <p:nvPr/>
        </p:nvPicPr>
        <p:blipFill>
          <a:blip r:embed="rId1"/>
          <a:stretch/>
        </p:blipFill>
        <p:spPr>
          <a:xfrm>
            <a:off x="1943280" y="26002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1"/>
          <p:cNvSpPr/>
          <p:nvPr/>
        </p:nvSpPr>
        <p:spPr>
          <a:xfrm>
            <a:off x="1143000" y="469800"/>
            <a:ext cx="64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7d891d"/>
                </a:solidFill>
                <a:latin typeface="Arial"/>
              </a:rPr>
              <a:t>Дальнейшее развитие русские уставные документы получили в процессе создания Петром I регулярной арми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685800" y="1488960"/>
            <a:ext cx="7696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робно рассмотрен наступательный опы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исан оборонительный опы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смотрен бой в особых условиях  (маневры всех родов войск, акцент на инициативу, решительность офицеров и солдат)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1828800" y="3809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1424160" y="352440"/>
            <a:ext cx="67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7d891d"/>
                </a:solidFill>
                <a:latin typeface="Corbel"/>
              </a:rPr>
              <a:t>«Устав полевой службы» (1912г.)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1219320" y="38088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d891d"/>
                </a:solidFill>
                <a:latin typeface="Arial"/>
              </a:rPr>
              <a:t>В 1918-1919гг. были утверждены первые уставы Красной Арм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d891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7d891d"/>
                </a:solidFill>
                <a:latin typeface="Arial"/>
              </a:rPr>
              <a:t>1918г.-  «Устав внутренней и гарнизонной службы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d891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7d891d"/>
                </a:solidFill>
                <a:latin typeface="Arial"/>
              </a:rPr>
              <a:t>1919г.- «Полевой устав», «Строевой устав», «Дисциплинарный устав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004840" y="2689200"/>
            <a:ext cx="513432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хема 5" descr=""/>
          <p:cNvPicPr/>
          <p:nvPr/>
        </p:nvPicPr>
        <p:blipFill>
          <a:blip r:embed="rId1"/>
          <a:stretch/>
        </p:blipFill>
        <p:spPr>
          <a:xfrm>
            <a:off x="682560" y="1706400"/>
            <a:ext cx="8083440" cy="491364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с двумя скругленными противолежащими углами 8"/>
          <p:cNvSpPr/>
          <p:nvPr/>
        </p:nvSpPr>
        <p:spPr>
          <a:xfrm>
            <a:off x="5334120" y="3581280"/>
            <a:ext cx="3276360" cy="457200"/>
          </a:xfrm>
          <a:prstGeom prst="pie">
            <a:avLst/>
          </a:prstGeom>
          <a:solidFill>
            <a:srgbClr val="191919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став внутренней служб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Прямоугольник с двумя скругленными противолежащими углами 9"/>
          <p:cNvSpPr/>
          <p:nvPr/>
        </p:nvSpPr>
        <p:spPr>
          <a:xfrm>
            <a:off x="5334120" y="4114800"/>
            <a:ext cx="3276360" cy="457200"/>
          </a:xfrm>
          <a:prstGeom prst="pie">
            <a:avLst/>
          </a:prstGeom>
          <a:solidFill>
            <a:srgbClr val="191919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Дисциплинарный уста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Прямоугольник с двумя скругленными противолежащими углами 10"/>
          <p:cNvSpPr/>
          <p:nvPr/>
        </p:nvSpPr>
        <p:spPr>
          <a:xfrm>
            <a:off x="5334120" y="4648320"/>
            <a:ext cx="3276360" cy="457200"/>
          </a:xfrm>
          <a:prstGeom prst="pie">
            <a:avLst/>
          </a:prstGeom>
          <a:solidFill>
            <a:srgbClr val="191919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троевой уста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Прямоугольник с двумя скругленными противолежащими углами 11"/>
          <p:cNvSpPr/>
          <p:nvPr/>
        </p:nvSpPr>
        <p:spPr>
          <a:xfrm>
            <a:off x="5334120" y="5181480"/>
            <a:ext cx="3276360" cy="533520"/>
          </a:xfrm>
          <a:prstGeom prst="pie">
            <a:avLst/>
          </a:prstGeom>
          <a:solidFill>
            <a:srgbClr val="191919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став гарнизонной и караульной служб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Прямоугольник с двумя скругленными противолежащими углами 12"/>
          <p:cNvSpPr/>
          <p:nvPr/>
        </p:nvSpPr>
        <p:spPr>
          <a:xfrm>
            <a:off x="5334120" y="5791320"/>
            <a:ext cx="3276360" cy="457200"/>
          </a:xfrm>
          <a:prstGeom prst="pie">
            <a:avLst/>
          </a:prstGeom>
          <a:solidFill>
            <a:srgbClr val="191919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Корабельный устав ВМФ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Прямоугольник 1"/>
          <p:cNvSpPr/>
          <p:nvPr/>
        </p:nvSpPr>
        <p:spPr>
          <a:xfrm>
            <a:off x="1066680" y="38088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7d891d"/>
                </a:solidFill>
                <a:latin typeface="Arial"/>
              </a:rPr>
              <a:t>Уставы</a:t>
            </a:r>
            <a:r>
              <a:rPr b="0" lang="ru-RU" sz="2000" spc="-1" strike="noStrike">
                <a:solidFill>
                  <a:srgbClr val="7d891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d891d"/>
                </a:solidFill>
                <a:latin typeface="Arial"/>
              </a:rPr>
              <a:t>Вооруженных Сил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ормативные акты, которые регламентируют жизнь, быт военнослужащих, несение службы в Вооруженных Силах и определяют основы боевых действи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4" descr="cupl131136big"/>
          <p:cNvPicPr/>
          <p:nvPr/>
        </p:nvPicPr>
        <p:blipFill>
          <a:blip r:embed="rId1"/>
          <a:stretch/>
        </p:blipFill>
        <p:spPr>
          <a:xfrm>
            <a:off x="685800" y="2514600"/>
            <a:ext cx="2013120" cy="3124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files-UPTpa77W2p"/>
          <p:cNvPicPr/>
          <p:nvPr/>
        </p:nvPicPr>
        <p:blipFill>
          <a:blip r:embed="rId2"/>
          <a:stretch/>
        </p:blipFill>
        <p:spPr>
          <a:xfrm>
            <a:off x="6215040" y="2590920"/>
            <a:ext cx="2233800" cy="3124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141090"/>
          <p:cNvPicPr/>
          <p:nvPr/>
        </p:nvPicPr>
        <p:blipFill>
          <a:blip r:embed="rId3"/>
          <a:stretch/>
        </p:blipFill>
        <p:spPr>
          <a:xfrm>
            <a:off x="3352680" y="3581280"/>
            <a:ext cx="2141640" cy="297180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1"/>
          <p:cNvSpPr/>
          <p:nvPr/>
        </p:nvSpPr>
        <p:spPr>
          <a:xfrm>
            <a:off x="957240" y="380880"/>
            <a:ext cx="6934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Устав внутренней службы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исциплинарный устав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Устав гарнизонной и караульной служб </a:t>
            </a:r>
            <a:r>
              <a:rPr b="0" lang="ru-RU" sz="2000" spc="-1" strike="noStrike">
                <a:solidFill>
                  <a:srgbClr val="7d891d"/>
                </a:solidFill>
                <a:latin typeface="Arial"/>
              </a:rPr>
              <a:t>в соответствии с Федеральным законом «Об обороне» утверждены Указом Президента РФ – Верховного Главнокомандующего ВС РФ 14 декабря 1993 г. имеют </a:t>
            </a:r>
            <a:r>
              <a:rPr b="0" lang="ru-RU" sz="2000" spc="-1" strike="noStrike">
                <a:solidFill>
                  <a:srgbClr val="df5327"/>
                </a:solidFill>
                <a:latin typeface="Arial"/>
              </a:rPr>
              <a:t>статус законов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" descr="cupl131136big"/>
          <p:cNvPicPr/>
          <p:nvPr/>
        </p:nvPicPr>
        <p:blipFill>
          <a:blip r:embed="rId1"/>
          <a:stretch/>
        </p:blipFill>
        <p:spPr>
          <a:xfrm>
            <a:off x="762120" y="3048120"/>
            <a:ext cx="2209680" cy="3429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9"/>
          <p:cNvSpPr/>
          <p:nvPr/>
        </p:nvSpPr>
        <p:spPr>
          <a:xfrm>
            <a:off x="3581280" y="3124080"/>
            <a:ext cx="5410440" cy="3581640"/>
          </a:xfrm>
          <a:prstGeom prst="rect">
            <a:avLst/>
          </a:prstGeom>
          <a:solidFill>
            <a:srgbClr val="a6b7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в внутренней служб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яет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едующие обязанности солдат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ать военное дело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ять требования воинских уставов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ять приказы командир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ть боевую технику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ять требования безопасност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обращении с оружие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ть должности и воинские звани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Прямоугольник 1"/>
          <p:cNvSpPr/>
          <p:nvPr/>
        </p:nvSpPr>
        <p:spPr>
          <a:xfrm>
            <a:off x="1631160" y="380880"/>
            <a:ext cx="58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d891d"/>
                </a:solidFill>
                <a:latin typeface="Corbel"/>
              </a:rPr>
              <a:t>Устав внутренней служ</a:t>
            </a:r>
            <a:r>
              <a:rPr b="1" lang="ru-RU" sz="3600" spc="-1" strike="noStrike">
                <a:solidFill>
                  <a:srgbClr val="7d891d"/>
                </a:solidFill>
                <a:latin typeface="Corbel"/>
              </a:rPr>
              <a:t>бы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1104840" y="1068480"/>
            <a:ext cx="693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7d891d"/>
                </a:solidFill>
                <a:latin typeface="Corbel"/>
              </a:rPr>
              <a:t>Устав внутренней службы</a:t>
            </a:r>
            <a:r>
              <a:rPr b="1" lang="ru-RU" sz="2400" spc="-1" strike="noStrike">
                <a:solidFill>
                  <a:srgbClr val="7d891d"/>
                </a:solidFill>
                <a:latin typeface="Corbel"/>
              </a:rPr>
              <a:t> – </a:t>
            </a:r>
            <a:r>
              <a:rPr b="0" lang="ru-RU" sz="2400" spc="-1" strike="noStrike">
                <a:solidFill>
                  <a:srgbClr val="7d891d"/>
                </a:solidFill>
                <a:latin typeface="Corbel"/>
              </a:rPr>
              <a:t>определяет общие права и обязанности военнослужащих и взаимоотношения между ними, обязанности основных должностных лиц полка и его подразделени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blioteka3</dc:creator>
  <dc:description/>
  <dc:language>en-US</dc:language>
  <cp:lastModifiedBy>Baklan</cp:lastModifiedBy>
  <dcterms:modified xsi:type="dcterms:W3CDTF">2024-11-20T18:11:48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